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3DE7-859C-481F-9BE2-4342567E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697-9EEB-45A2-8EAE-5D177C3C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4B9-26D4-4E6C-A053-A83C6F0F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AC52-D109-4BC5-85E5-F6D901B7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5EF5-50F6-4F6D-9513-32B8FC31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3E17-F158-40F1-8717-E5686E1F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1396-AA9B-419E-80EC-2A018575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F9DD-BD05-4EDF-BB72-8F9F3F3D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1ADA-FC34-4B07-B703-518B8693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99CC-7F72-44AE-A36B-3FBAC603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3DF3-C358-4CEF-BF5E-6DCF43CE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9E6-7755-4792-A13C-A29C01D1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3E91-8B98-44B2-B3AB-E7416285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B2FB-42DF-421F-92D1-22EE96FE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341B-A1F4-44D3-8101-60F98577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582C-DF8B-41D7-BA1D-9492708C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0A3F-5530-4A13-990E-4838A54D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7C7-B643-4AA0-B5DC-0B501E4A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08EE-A29B-46A6-AA62-47EFB862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4DDE-65E4-45D7-93EB-A76EBE5E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FF9-CC37-4775-967C-AEF8978B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955F-B20A-4BE6-A2A2-9E10C6CD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8A0F-65E0-4ECD-802A-B69AC556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6ADB-62EE-4E92-AE84-27A62F1D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9E35-63B0-45D1-B590-A2AC9EF48D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EDE5-F84F-44C5-AECE-E1B6934471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forklift.ru/img/kat/katalog100128pp.jpg&amp;imgrefurl=http://www.forklift.ru/%3Fpage%3Dcat%26top%3D100042&amp;h=200&amp;w=200&amp;sz=44&amp;hl=ru&amp;start=17&amp;tbnid=p04Ufsq4ubPDGM:&amp;tbnh=104&amp;tbnw=104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bast.ru/bastion/help/risunki/jurris.gif&amp;imgrefurl=http://bast.ru/bastion/help/stat_juravlev_akb.htm&amp;h=179&amp;w=250&amp;sz=22&amp;hl=ru&amp;start=20&amp;tbnid=zEAGC-Y-xJfrwM:&amp;tbnh=79&amp;tbnw=111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98984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ытовые отходы.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сор-проблема век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19280" y="2349360"/>
            <a:ext cx="662472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копление твердых бытовых отходов в современном городе достигает 250-300 кг на человека в год, а ежегодное увеличение отходов на душу населения составляет 4-6%, что в 3 раза превышает скорость роста насе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187308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России разработана технология по механизированному извлечению из твердых бытовых отходов шести компонен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ных металло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ловосодержащего лом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юми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кулатур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имерной плен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щевых отход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 энер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середины 70-х годов ХХв. в разгар мирового энергетического кризиса на твердые бытовые отходы стали смотреть как на дополнительный сырьевой источник энергии - тепло отходящих газов, образующихся при сжигании мусора, можно утилизировать: пять тонн мусора равны тонне условного топли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6920" y="4797360"/>
            <a:ext cx="2592720" cy="433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716280"/>
            <a:ext cx="2521080" cy="43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2924280"/>
            <a:ext cx="2160720" cy="433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стема раздельного сбора мус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b8b7d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Германии батареи мусорных бочек у домов выкрашены в три цвета: серые, желтые, зелены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ер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несут старые газеты, журналы и картонные короб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желт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выбрасывают банки, бутылки полимерную и бумажную, а также частично металлическую упаков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еле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а предназначена для биоразлагаемых отходов пищевого происхождения, которые позже будут переработаны в компост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ледствия мусорного загрязнен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ассификация бытовых отход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ы удаления и переработки бытового мусора в современных городах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ое исследование: «Не слишком ли много мы используем упаковок?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ие акции: «Чистый подъезд», «Ель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валки существенно влияют на все компоненты окружающей природной среды и являются мощным загрязнителем атмосферного воздуха, почвы и грунтовых вод .Эти свалки являются, кроме того, еще рассадниками мышей, крыс, насекомых и могут стать источником инфекционных заболеваний, особенно в южных районах стра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45600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5783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08360" y="2779560"/>
            <a:ext cx="5168880" cy="3461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582588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400" y="1341360"/>
            <a:ext cx="87692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обенно опасным является ртутное загрязн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стоящее время в стране ежегодно идет в отходы около 200 млн. штук люминесцентных и дугоразрядных ламп. В каждой лампе содержится от 80 до 120 мг рту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3433680" cy="2575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3284640"/>
            <a:ext cx="547344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меньшую опасность представляют ртутьсодержащие электрические батарейки. В электрических батарейках содержание ртути достигает 300 мг. В целом по нашей стране попадают на свалки десятки тонн рт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инцовые аккумуляторы для автомобилей – в среднем в каждом аккумуляторе содержится от 8,5 до 9,5 кг свин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933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860640"/>
            <a:ext cx="2303640" cy="1640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3933720"/>
            <a:ext cx="1679400" cy="16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идемиологическая опас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, например, в Ленинградской области на свалке были выявлены зараженные бешенством лисицы, что привело к необходимости проведения дорогостоящих профилактических мероприят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се твердые отходы городов заражены разнообразными насекомыми и гельмин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мире зарегистрировано уже заражение детей СПИДом, связанное с игрой последних с медицинскими отходами, попавшими в бытовые контейне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вердые бытовые отходы в городах содержат значительное количество разнообразных токсичных веществ и материалов. Примерно 4% отходов являются токсичны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 наименований токсичных соединений и среди них - красители, пестициды, ртуть и ее соединения, растворители, свинец и его соли, лекарства, кадмий, мышьяковистые соединения, формальдегид, соли таллия 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обое место среди твердых отходов занимают пластмассы и синтетические материалы, так как они не подвергаются процессам биологического разрушения и могут длительное время (десятки лет) находиться в объектах окружающей среды. При горении пластмасс и синтетических материалов выделяются многочисленные токсические я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блемы удаления и переработки бытового мусора в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овременных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города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7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вое "мусоросжигательное заведение" было построено еще в 1870 году близ Лондон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ейчас в мире действуют более 1000 мусоросжигательных заво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нашей стране первый мусоросжигательный завод был построен только в 1972 году, то есть через 102 года после появления в мире перв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6:49:11Z</dcterms:created>
  <dc:creator>09</dc:creator>
  <dc:description/>
  <dc:language>en-US</dc:language>
  <cp:lastModifiedBy>admin</cp:lastModifiedBy>
  <dcterms:modified xsi:type="dcterms:W3CDTF">2007-01-21T19:45:50Z</dcterms:modified>
  <cp:revision>12</cp:revision>
  <dc:subject/>
  <dc:title>Бытовые отходы. Мусор-проблема века. </dc:title>
</cp:coreProperties>
</file>